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0AFD-D11E-447D-B66C-3AD81AA6B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D3BB-589C-48CA-B7E9-6CE62153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8B9B-EAE2-4C57-B503-1F1980D2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9826-9C18-42E7-ADB4-A1B55D51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CC61-B1F8-4D5C-BC8E-2FB71A64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7A13-6413-4F1A-B926-415A8DCF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9A15-2B60-4A4B-9B57-DEC65546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51DC-14F1-4CBB-9864-4BC4E3E1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E6D6-3F6B-487B-A7CE-D5B53670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0EEA-7C22-4999-82E7-48481796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DA97-A624-4434-BEBC-A34770A2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2E78-F1CE-4EA6-8950-66B310D1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4609-E7EF-495D-9579-1FA46569C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Chinatow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sheep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both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8. dish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9. which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0. tha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1. wash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40384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chas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6. teeth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7. teach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-360"/>
            <a:ext cx="44956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2. catch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3. lunch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4. whistl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Chinatown</a:t>
            </a:r>
            <a:br>
              <a:rPr sz="35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both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wash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teeth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hinatown</a:t>
            </a:r>
            <a:br>
              <a:rPr sz="44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roup 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ist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tch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kitch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419360" y="144756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8. march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9. teach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0. thump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1. sunshi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51920" y="151920"/>
            <a:ext cx="43434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. chick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. streng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. fresh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191120" y="151920"/>
            <a:ext cx="495288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12. cartwheel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3. cheerfu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4. childr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5. spla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0:54:43Z</dcterms:created>
  <dc:creator>Kathryn.Cobb</dc:creator>
  <dc:description/>
  <dc:language>en-US</dc:language>
  <cp:lastModifiedBy>Kathryn Cobb</cp:lastModifiedBy>
  <cp:lastPrinted>2008-12-05T12:03:03Z</cp:lastPrinted>
  <dcterms:modified xsi:type="dcterms:W3CDTF">2008-12-05T12:03:38Z</dcterms:modified>
  <cp:revision>5</cp:revision>
  <dc:subject/>
  <dc:title>The Art Lesson Group A</dc:title>
</cp:coreProperties>
</file>